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AE3F-6956-4A15-A297-059725D40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 G may be sequence in an enh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apter GUI allows selection of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number of Q20 bp per 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Genome Sequencing</a:t>
            </a:r>
            <a:br>
              <a:rPr sz="5400"/>
            </a:br>
            <a:br>
              <a:rPr sz="5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mpact on Ann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574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MOD April 26-28, 2004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Kim C. Worley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3638" t="0" r="20000" b="0"/>
          <a:stretch/>
        </p:blipFill>
        <p:spPr>
          <a:xfrm>
            <a:off x="228600" y="2666880"/>
            <a:ext cx="1700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rple Sea Urchi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rongylocentrotus purpuratu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5% of reads have premature termination due to poly G sequen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complementary poly C sequence does not have the same effec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se regions will have 1/2 x the average coverag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olymorphic - not inbr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extent of this may be underestimated due to the premature termination abov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533520" y="685800"/>
            <a:ext cx="5562360" cy="5562720"/>
            <a:chOff x="533520" y="685800"/>
            <a:chExt cx="5562360" cy="5562720"/>
          </a:xfrm>
        </p:grpSpPr>
        <p:sp>
          <p:nvSpPr>
            <p:cNvPr id="70" name=""/>
            <p:cNvSpPr/>
            <p:nvPr/>
          </p:nvSpPr>
          <p:spPr>
            <a:xfrm flipV="1">
              <a:off x="761760" y="2514240"/>
              <a:ext cx="151920" cy="685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914040" y="1371240"/>
              <a:ext cx="228240" cy="106668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33520" y="3352320"/>
              <a:ext cx="228240" cy="7621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61760" y="4724280"/>
              <a:ext cx="304560" cy="14479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676160" y="5562360"/>
              <a:ext cx="151920" cy="685800"/>
            </a:xfrm>
            <a:prstGeom prst="line">
              <a:avLst/>
            </a:prstGeom>
            <a:ln w="19080">
              <a:solidFill>
                <a:srgbClr val="e4e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828440" y="4952520"/>
              <a:ext cx="152280" cy="685800"/>
            </a:xfrm>
            <a:prstGeom prst="line">
              <a:avLst/>
            </a:prstGeom>
            <a:ln w="19080">
              <a:solidFill>
                <a:srgbClr val="e4e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904760" y="5028840"/>
              <a:ext cx="304560" cy="11430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209680" y="2971440"/>
              <a:ext cx="456840" cy="20574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657240" y="990360"/>
              <a:ext cx="685440" cy="2819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124080" y="2666520"/>
              <a:ext cx="761400" cy="35053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124080" y="3886200"/>
              <a:ext cx="456840" cy="22096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819160" y="5181480"/>
              <a:ext cx="228240" cy="990720"/>
            </a:xfrm>
            <a:prstGeom prst="line">
              <a:avLst/>
            </a:prstGeom>
            <a:ln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190760" y="3504960"/>
              <a:ext cx="151920" cy="6094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419360" y="5562360"/>
              <a:ext cx="151920" cy="533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4419000" y="4038120"/>
              <a:ext cx="533160" cy="213372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4952880" y="838080"/>
              <a:ext cx="1142640" cy="5029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342680" y="5562360"/>
              <a:ext cx="152280" cy="68580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2742480" y="5257440"/>
              <a:ext cx="152280" cy="76212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1523880" y="5562360"/>
              <a:ext cx="75600" cy="5331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2438280" y="5486040"/>
              <a:ext cx="151920" cy="6858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285280" y="4952880"/>
              <a:ext cx="152280" cy="6098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142640" y="2590920"/>
              <a:ext cx="761760" cy="3581280"/>
            </a:xfrm>
            <a:prstGeom prst="line">
              <a:avLst/>
            </a:prstGeom>
            <a:ln w="19080">
              <a:solidFill>
                <a:srgbClr val="e4e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520" y="6172200"/>
              <a:ext cx="5562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3520" y="685800"/>
              <a:ext cx="0" cy="548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1066680"/>
              <a:ext cx="152280" cy="685800"/>
            </a:xfrm>
            <a:prstGeom prst="line">
              <a:avLst/>
            </a:prstGeom>
            <a:ln w="1908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520" y="6248520"/>
              <a:ext cx="22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6248520"/>
              <a:ext cx="456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9840" y="6248520"/>
              <a:ext cx="759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81080" y="6248520"/>
              <a:ext cx="75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9680" y="6248520"/>
              <a:ext cx="75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90560" y="6248520"/>
              <a:ext cx="22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1280" y="6248520"/>
              <a:ext cx="75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5840" y="6248520"/>
              <a:ext cx="3045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43040" y="6248520"/>
              <a:ext cx="759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1640" y="6248520"/>
              <a:ext cx="1523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95480" y="6248520"/>
              <a:ext cx="22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5000" y="60912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a Urchin Polymorphis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CM Genom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71480"/>
          <a:ext cx="8344080" cy="3992760"/>
        </p:xfrm>
        <a:graphic>
          <a:graphicData uri="http://schemas.openxmlformats.org/drawingml/2006/table">
            <a:tbl>
              <a:tblPr/>
              <a:tblGrid>
                <a:gridCol w="2286000"/>
                <a:gridCol w="838080"/>
                <a:gridCol w="914400"/>
                <a:gridCol w="838440"/>
                <a:gridCol w="838080"/>
                <a:gridCol w="762120"/>
                <a:gridCol w="91440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.no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.mu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.tau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.pu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.p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. me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.ca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lymorphis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rker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sert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ne Distribution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T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inished Sequenc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verag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quence Bi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Genome Assembl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9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trics for Quality of Assembli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nished sequence comparis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der and Orientation of assembled contig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leteness of bp represent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rrectness of bp represent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arison to other dat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leteness and correctness of represent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RNA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S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rker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quencing Cost is Everyth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rics for inexpensive bases or read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st per Q20 bas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st per rea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 measure of success of project being good quality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quence only the AT rich parts of the genome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iss segmental duplications - interesting biolog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cently evolving gene families that highlight species differen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llenges Due to Changes in Production to Increase Read Length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utions - addressed by adjusting insert siz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ore overlapping mate-pai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kew overlap statistic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ewer reads total (project promised total bp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irtual read length increase - no assembly improvement, since Phrap uses low quality bas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ssembl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ads are easy (commodity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tig assembly is becoming easy (with exceptions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rder and Orientation requires paired end link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inning to chromosomes requires high density map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rati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umanized genomes or Homogenized genom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ne for protein coding sequen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ill miss regulatory sequen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ill miss recent duplica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ture Genom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ss dat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x coverage on many genom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ew markers, ESTs, mRNA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ew BACs, Fosmid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ittle map inform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certain quality assembli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e the sequences from the correct organism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the assembly capture the bulk of the genes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the assembly faithfully represent the genome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e the contigs properly scaffolded to the genome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fects on Anno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complete Gene Predic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oning bias region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ort contigs, many gap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himeric Gene Predic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correctly placed or joined contig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oblems for Gene famili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ost Segmental duplica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st interesting biology (what makes organisms different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st difficult for WGS only and low coverage methods to resolv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s Characterized Genomes - Gene Predic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 novo without evidenc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ools developed for particular genome may not transfer well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Little expressed sequence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rotein sequence from other specie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sembl  must stick to mammals in the futur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quencing, Assembly, Finishing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act on Anno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ps that interrupt genes (poor prediction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ps that  contain genes (missing data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uplications (extra gene copies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llapsed regions (missed gene duplications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rder and orientation erro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hromosome location erro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uture Genomes will be Draf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quired Componen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nish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quality assessm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cus on syntenic breakpoin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cus on gen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solve duplicated region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ST sequenc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quality assessm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nota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pp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long range scaffolding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341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not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terativ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re difficul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neric de novo tool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619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ul Havla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James Durbi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ui Ch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my Ega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hen Richard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ue Liu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rica Sodergr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ingshan L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nry So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Qin Xia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uayang Jia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619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leks Milosalvjevic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avid A. Wheel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yan Lozado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hiran Pasternak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onna M. Muzn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haron We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hannon P. Duga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an D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hristian Buha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orge M. Weinstoc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ichard A. Gibb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 Developme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difications at BC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CM Data Modific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ort annotations from Ensembl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mo_sapiens_core_15_33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mo_sapiens_est_15_33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tig based coordinat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dded MySQL database table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 store feature sequence(cDNA, ESTs, etc...)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r UCSC data (coordinates and sequence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ort annotations from UCSC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nome coordinat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imited data to chromosomes 3 and 1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 Modifications: Baylor Adaptor Fun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GUI allows users to select a chromosome and a range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Retrieves features in region from database 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eatures are grouped based on the Apollo data objects (SeqFeatures and FeatureSets)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eatures are added to a curation set. 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or new regions all Ensembl genepredictions are "promoted" to the blue annotation area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or previously curated regions a GAME Adaptor is instantiated within the Baylor adaptor to read the existing annotations from the GAMEXML file into a GenericAnnotationSet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Annotations are saved in a GAMEXML file.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 Modifications: Baylor Adaptor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ollo adaptor is a java package used to load feature data into Apollo from any database.  This adaptor is tied to Apollo version 1.3.5. 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dified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pollo.dataadapter.organism.OrganismAdapt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move the binding of gene definition to name adaptors. 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w name adapter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du.bcm.hgsc.apollo.dataadapter.organism.HumanNameAdapter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control behavior of the "Show Gene Report" menu item.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ylor Adaptor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t upgraded to version 1.4.2 because it appears that some packages have been reorganized (or organized)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sists of 95 java classe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0 junit test class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de duplication is minima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ployed using An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ign patterns, Refactoring, and Test Driven Development were use in creating the adaptor.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ceedures  to Annotate Huma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fined regions to avoid overlap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ssigned reg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maller regions or trimmed data for some reg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anning genes annotated in one region on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 rare cases spanning genes annotated in separate overlap regions with unique annotat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notation Repor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enbank feature table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Accounts of genes and transcripts 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by assigned region 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By annotator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ene count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known 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previously unknown genes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Sequence variation between genomic sequence and cDNA evidence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verview of Sequence Metho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ole Genome Shotgun (WGS) on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ast, inexpensiv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ood scaffolds with different insert siz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n collapse recent duplications and repea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C skim  + WG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re expensive (more shotgun libraries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tter resolution of duplications (local assembly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AC pools - potentially more efficient skim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rati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expensive shortcut when resources unavailabl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n create artifacts in the assembly - no mousified ra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3260" r="0" b="0"/>
          <a:stretch/>
        </p:blipFill>
        <p:spPr>
          <a:xfrm>
            <a:off x="514440" y="304920"/>
            <a:ext cx="8020080" cy="620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Annotation Accounting</a:t>
            </a:r>
            <a:endParaRPr b="0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085" t="18971" r="0" b="3511"/>
          <a:stretch/>
        </p:blipFill>
        <p:spPr>
          <a:xfrm>
            <a:off x="914400" y="1143000"/>
            <a:ext cx="739152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onderful for manual cur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ork is needed to make it a more portable tool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atabase for curated annota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wnload for local oper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ek a standardized GAMEXML schema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ital for ease of use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r communication of all users and develop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crease time required to "plug into apollo" from any data source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al Geno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aploid or Inbred organism (less polymorphism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Map (better higher order scaffolding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GS (several insert sizes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C skims (local assembly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ll behaved distribution of clone represent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ST/mRNA data for QC, Assembly and Annot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nished sequences for QC, Q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ough coverage (7x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al Genomes are not Idea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1219320"/>
          <a:ext cx="8686800" cy="5062320"/>
        </p:xfrm>
        <a:graphic>
          <a:graphicData uri="http://schemas.openxmlformats.org/drawingml/2006/table">
            <a:tbl>
              <a:tblPr/>
              <a:tblGrid>
                <a:gridCol w="2133720"/>
                <a:gridCol w="1676160"/>
                <a:gridCol w="2667240"/>
                <a:gridCol w="2209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K</a:t>
                      </a: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ad</a:t>
                      </a: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lymorphis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aploi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b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Outb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rker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ens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pars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sert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kb, 10kb, 50kb, 200k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kb, 50k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k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ne Distribution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andom in some 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iased in all cas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AC end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, pai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, pai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 or not pai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T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 300/M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 100/M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RN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inished Sequenc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verag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x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x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x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quence Bi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/one stran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/both strand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Mb - 100M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0Mb - 1G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&gt;1G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ome Characteristics and Resources Available Change the Methods and Outco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9800" y="1981080"/>
            <a:ext cx="82044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CM Genom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71480"/>
          <a:ext cx="8344080" cy="3992760"/>
        </p:xfrm>
        <a:graphic>
          <a:graphicData uri="http://schemas.openxmlformats.org/drawingml/2006/table">
            <a:tbl>
              <a:tblPr/>
              <a:tblGrid>
                <a:gridCol w="2286000"/>
                <a:gridCol w="838080"/>
                <a:gridCol w="914400"/>
                <a:gridCol w="838440"/>
                <a:gridCol w="838080"/>
                <a:gridCol w="762120"/>
                <a:gridCol w="91440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.no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.mu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.tau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.pu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.p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. me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.ca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lymorphis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rker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sert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ne Distribution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T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inished Sequenc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verag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quence Bi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Experi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w - Bos tauru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br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BAC resour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p resour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QT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rge genom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8120" y="19810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hesus - Macaca mulat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rge genom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or resour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rk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S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rati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 Human genome sequenc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 Human mark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C resources to impro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neybee - Apis mellifer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T rich regions miss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ooking at orthologous insect genes some were poorly represented, and those were more AT rich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radient centrifugation to separate on base composition and select AT rich fra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ias in BAC represent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rnal deletions that corrupt the assembly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4:14:48Z</dcterms:created>
  <dc:creator>Kim C. Worley</dc:creator>
  <dc:description/>
  <dc:language>en-US</dc:language>
  <cp:lastModifiedBy>Kim C. Worley</cp:lastModifiedBy>
  <cp:lastPrinted>2004-04-19T18:03:29Z</cp:lastPrinted>
  <dcterms:modified xsi:type="dcterms:W3CDTF">2004-04-26T20:00:23Z</dcterms:modified>
  <cp:revision>873</cp:revision>
  <dc:subject/>
  <dc:title>PowerPoint Presentation  -  Entrez</dc:title>
</cp:coreProperties>
</file>